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847-41FD-4CCC-B719-87F5A428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5D7-1558-4457-999C-F4A53CDC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8DC-D320-4F5C-9D12-A60EEC44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8D4-421E-4B12-848A-5A3035E5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8BD0-388F-4AE2-9525-D105B0B2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1C4-FFAA-41E5-B485-F224B648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4CB5-A6A6-4443-A8F7-DDCF71B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B5B-5D6E-4383-AAAE-F8BDE864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82E0-44C8-4FA9-8E7A-714B520A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5CFD-07B4-452C-9FF0-A08FABF9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66D9-AA89-496D-BFAD-36C0169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0BC-582F-415D-9F5D-1FE7FC9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8A7A-5264-405B-BF6F-C8BEB27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5164-352F-4D3D-9463-FF50301F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F78-D29A-4DAE-956B-F94ABB5B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D625-EB3D-4352-A4E3-F61D84E2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C50A-6CC0-4A6B-B81A-D49F370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3F7-E7C8-4B03-983C-0939A71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364-CD4E-4106-8EA7-4C70E832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11B-334C-4203-910B-695672A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447-0F4A-4666-842E-7E65E8B0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264-65FB-4ED1-8A01-732E0588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471-D07F-4D27-893E-A282387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BEA-33CF-4C2B-8010-5666786B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BA59-B950-4690-994E-5003E33D0FF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79A-AD1F-40FF-901F-1E1C63C750B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Session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choose a specific expectation from the trigonometric functions strand from any Grade 11 or 12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expectation as a learning goal to support the development of one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question that would help students to meet the learning 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Expec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ketch the graphs of y =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 (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x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+ c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 (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x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+ c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y applying transformations to the graphs of f(x) = sin x and f(x) = cos x with angles expressed in radians, and state the period, amplitude, and phase shift of the transformed func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lying transformations to a trigonometric function is similar to applying transformations to other functions.  The effects of such transformations impacts specifically on the domain and range, as well as properties of trigonometric function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trigonometric functions listed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 = 3 sin2x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 =  cos                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– 2 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re most alike ? Why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700360" y="418932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79640" y="4869000"/>
                <a:ext cx="17636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9280" y="3460680"/>
                <a:ext cx="900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 Peer Review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another set of pairs and exchange your learning goals and questions, and provide feedback for ed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the popsicle stick prompts during the peer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Peer Review </a:t>
            </a:r>
            <a:r>
              <a:rPr b="0" lang="en-US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specific expectation, learning goal and question on chart paper and post for sharing with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to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developing learning goals and open questions based on the big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trigonometric func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sed on today’s session, complete your Trigonometric Functions journal, focusing on the prompts that are most meaningfu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developing learning goals and open questions based on the big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trigonometric functions are posted, one in each corner of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an envelope with overall expectations from various grade 11 and 12 courses, related to trigonometric functions.  Choos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-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9720" indent="-27972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 for matching the overall expectation to that big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oup Sh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func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relationship appears to be periodic in nature, then it is appropriate to consider a trigonometric function to model the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09-08-18T01:03:46Z</dcterms:modified>
  <cp:revision>144</cp:revision>
  <dc:subject/>
  <dc:title>Slide 1</dc:title>
</cp:coreProperties>
</file>